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95BA-ED08-4381-93E9-9AF2E580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CA4-BAD9-4180-866A-D2377BB8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3D8-8097-4A72-8A16-1306A027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74E2-1F8E-4AE4-9DD2-9463F09A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D5E2-C850-460A-A3E6-12160717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1842-03BF-4AD9-A25F-8CD0F01F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9794-DA52-4475-96C5-D79BB880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A97E-5B02-40DC-BE11-47FBD713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747F-E1F6-41BD-864F-473D6AB7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1459-C418-4558-9F25-40227202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2B13-78DB-47D1-9466-EA9020DF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CBC-01D8-43C8-919A-4F1E1349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28FD-1543-4820-94F5-3B46D3EF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7E2A-5515-46C5-B4B1-A725D453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6191-22CE-48D0-A922-F39D14C5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614C-1EAD-45A2-A815-4C6696FF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DF91-53B0-48AB-81D0-960D1721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64B21-B267-4A6A-A192-0D6D145B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37CCC-CE10-47D3-99AF-2A56C031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31599-7857-477B-8391-0EA9BE97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2E9FD-4732-4B88-B28D-3D509683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6D0B7-0123-4576-873C-682C4FEE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69F4-64F7-4C4F-A4AA-EE47A3C5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BFE71-70E7-4D09-8BC2-41A9E735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55054-EFF1-40DE-940D-F4B29033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6513-2FFC-45F6-A6DA-CFDB5E97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88E63-5FA0-4B59-933E-25790E5C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4FCDB-403C-4836-A8AA-CAAF42AA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06FC-C5D9-43C5-B8C8-E21F73D0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43247-12D8-4080-B6AF-0F4E55F4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141F8-0333-42B9-B7D0-33248F5F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66EE9-6A4E-439B-A625-A4A97BBB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4F617-41C7-4118-BFE4-2660C4CA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270-0DDE-4E84-9C7F-D3598455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D8F51-0847-4560-A9DF-723FE180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24632-78DE-4036-8ADB-D18B20B5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27F22-D77D-427F-B91C-4C823E6F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DBF55-E649-461B-AEA5-509B0FDE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4890E-71A0-4EF5-82CA-AC25FE4C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75DCB-3B44-499F-B689-068A8658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F03D1-9604-492F-B9E2-8004B3E5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C79DA-C4FF-43C1-A2B0-922FC604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E7C3A-23E3-47AA-8545-D1EDCE1F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294-1BDF-495C-9E23-D01649BC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E05-ADEF-4F90-A511-BE6DBC88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600F-1E28-4240-9070-F29926AF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ADC-191C-476A-AB1B-931B1B20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07D-5F75-4765-A5DD-F18FE884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ffce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89a00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f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8BAC-05E4-49F6-9DE5-42CA62E45A1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ffce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89a00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f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4A5B-5ADF-4316-B7F0-488B9654B97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ffce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89a00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f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F553-54E6-4814-8058-437BBD5E330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ffce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89a00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f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604B-6526-4597-B8A9-B304DBD98FB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: Shelby Zelek, Caroline Buehl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elsea Kovalcsik, and Theresa Sulminsk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Newspaper clipping from the Aitkin Independent Age"/>
          <p:cNvPicPr/>
          <p:nvPr/>
        </p:nvPicPr>
        <p:blipFill>
          <a:blip r:embed="rId1"/>
          <a:stretch/>
        </p:blipFill>
        <p:spPr>
          <a:xfrm>
            <a:off x="2743200" y="457200"/>
            <a:ext cx="403848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Fort Snelling National Cemetery, Section MD, Site 130"/>
          <p:cNvPicPr/>
          <p:nvPr/>
        </p:nvPicPr>
        <p:blipFill>
          <a:blip r:embed="rId1"/>
          <a:stretch/>
        </p:blipFill>
        <p:spPr>
          <a:xfrm>
            <a:off x="1447920" y="304920"/>
            <a:ext cx="6248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bliograp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stewthornley.net/hthornley_pow.htm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stewthornley.net/hthornley_bible.htm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www.ecclesgrammar.co.uk/Pictures/Miscellaneous/phil6.jp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www.cjfishlegacy.com/pow-mia.jp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ojc.org/adi/_borders/Viet_POW_2.JP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c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oward Thornley Prisoner of War Photo"/>
          <p:cNvPicPr/>
          <p:nvPr/>
        </p:nvPicPr>
        <p:blipFill>
          <a:blip r:embed="rId1"/>
          <a:stretch/>
        </p:blipFill>
        <p:spPr>
          <a:xfrm>
            <a:off x="2438280" y="152280"/>
            <a:ext cx="407700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Stalag 17-B"/>
          <p:cNvPicPr/>
          <p:nvPr/>
        </p:nvPicPr>
        <p:blipFill>
          <a:blip r:embed="rId1"/>
          <a:stretch/>
        </p:blipFill>
        <p:spPr>
          <a:xfrm>
            <a:off x="1981080" y="533520"/>
            <a:ext cx="5318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ttp://stewthornley.net/b17crew.jpg"/>
          <p:cNvPicPr/>
          <p:nvPr/>
        </p:nvPicPr>
        <p:blipFill>
          <a:blip r:embed="rId1"/>
          <a:stretch/>
        </p:blipFill>
        <p:spPr>
          <a:xfrm>
            <a:off x="1828800" y="1143000"/>
            <a:ext cx="56865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http://ojc.org/adi/_borders/Viet_POW_2.JPG"/>
          <p:cNvPicPr/>
          <p:nvPr/>
        </p:nvPicPr>
        <p:blipFill>
          <a:blip r:embed="rId1"/>
          <a:stretch/>
        </p:blipFill>
        <p:spPr>
          <a:xfrm>
            <a:off x="762120" y="609480"/>
            <a:ext cx="701028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ttp://www.cjfishlegacy.com/pow-mia.jpg"/>
          <p:cNvPicPr/>
          <p:nvPr/>
        </p:nvPicPr>
        <p:blipFill>
          <a:blip r:embed="rId1"/>
          <a:stretch/>
        </p:blipFill>
        <p:spPr>
          <a:xfrm>
            <a:off x="762120" y="1066680"/>
            <a:ext cx="7143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Telegram to Howard Thornley's mom, informing her that Thornley was missing in action"/>
          <p:cNvPicPr/>
          <p:nvPr/>
        </p:nvPicPr>
        <p:blipFill>
          <a:blip r:embed="rId1"/>
          <a:stretch/>
        </p:blipFill>
        <p:spPr>
          <a:xfrm>
            <a:off x="990720" y="1295280"/>
            <a:ext cx="6980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ttp://www.ecclesgrammar.co.uk/Pictures/Miscellaneous/phil6.jpg"/>
          <p:cNvPicPr/>
          <p:nvPr/>
        </p:nvPicPr>
        <p:blipFill>
          <a:blip r:embed="rId1"/>
          <a:stretch/>
        </p:blipFill>
        <p:spPr>
          <a:xfrm>
            <a:off x="2057400" y="2057400"/>
            <a:ext cx="4857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://stewthornley.net/bible.jpg"/>
          <p:cNvPicPr/>
          <p:nvPr/>
        </p:nvPicPr>
        <p:blipFill>
          <a:blip r:embed="rId1"/>
          <a:stretch/>
        </p:blipFill>
        <p:spPr>
          <a:xfrm>
            <a:off x="1219320" y="685800"/>
            <a:ext cx="72133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5:30:15Z</dcterms:created>
  <dc:creator>Installer</dc:creator>
  <dc:description/>
  <dc:language>en-US</dc:language>
  <cp:lastModifiedBy>Information Technology</cp:lastModifiedBy>
  <dcterms:modified xsi:type="dcterms:W3CDTF">2010-02-17T16:30:55Z</dcterms:modified>
  <cp:revision>28</cp:revision>
  <dc:subject/>
  <dc:title>John Mackowski</dc:title>
</cp:coreProperties>
</file>